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0839D-4997-4F83-9F7C-46B73CA6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9FCC-AF42-465B-B538-923C2396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49DC-AD8C-43F9-8AB8-269A2242E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B7A01-751A-49D9-A8C0-6F1811C67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B04F-D883-4C21-9662-C1AC21F7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9C8A-9DD3-4C49-A022-E1B0FD03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AA3F-54DA-46C1-9A80-50FF707A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3215-C4F4-4879-AFAA-5C4A5603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6063-AE56-4E31-92FF-D50B6F5E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19E2-0E1B-4D23-A16F-E341FBF9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16E2-AAB1-4B9B-8613-64F06FDD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B30B5-7F11-4874-8F5A-981FC1AE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AEE8-9F14-453A-A330-6BE7061E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8299-3F44-4729-B088-9A72C141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B8F6-4E52-42FB-A3C0-A322765D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B7AB-070F-4AE1-871F-2910FCAE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2F12-6549-4E28-90B8-849BF3CF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4E0E-AFFF-42BC-A434-D556E7CE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DE64D-A8A9-45EB-9BB0-9DB2E338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FAD16-DCC4-47BB-B59C-B547EFEC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09D8D-9BFE-4110-AEC8-9FBCBC05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3675E-E54C-4AC6-A796-200F6C5B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0DF9-51D6-45E0-B623-44720780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57D6A-1778-4480-8644-3EFA697D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A3F9-B281-47B1-AF98-AA98087ACB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490C-9B92-4CD9-9B39-D04F2341A5A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704320" y="907920"/>
            <a:ext cx="36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tle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8320" y="26028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iversity 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9480" y="1413000"/>
            <a:ext cx="25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bject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38600" y="4292640"/>
            <a:ext cx="32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ecturer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Student 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31120" y="5141880"/>
            <a:ext cx="290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fesso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95840" y="477504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mail Address -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01120" y="5950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447840"/>
            <a:ext cx="5459400" cy="1109520"/>
          </a:xfrm>
          <a:prstGeom prst="wedgeRectCallout">
            <a:avLst>
              <a:gd name="adj1" fmla="val 8736"/>
              <a:gd name="adj2" fmla="val -7661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lide Transi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Random Bars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ply o All sli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esign Templat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mplate\Design Template.p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1197000"/>
            <a:ext cx="6049800" cy="719280"/>
          </a:xfrm>
          <a:prstGeom prst="wedgeRectCallout">
            <a:avLst>
              <a:gd name="adj1" fmla="val -33444"/>
              <a:gd name="adj2" fmla="val -11269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fter per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11280" y="1747800"/>
            <a:ext cx="6193080" cy="1440000"/>
          </a:xfrm>
          <a:prstGeom prst="wedgeRectCallout">
            <a:avLst>
              <a:gd name="adj1" fmla="val -40412"/>
              <a:gd name="adj2" fmla="val -7789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2~7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fter per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444760"/>
            <a:ext cx="6193080" cy="1440000"/>
          </a:xfrm>
          <a:prstGeom prst="wedgeRectCallout">
            <a:avLst>
              <a:gd name="adj1" fmla="val -13648"/>
              <a:gd name="adj2" fmla="val -8682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~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2660760"/>
            <a:ext cx="6192720" cy="1439640"/>
          </a:xfrm>
          <a:prstGeom prst="wedgeRectCallout">
            <a:avLst>
              <a:gd name="adj1" fmla="val -23495"/>
              <a:gd name="adj2" fmla="val 7932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997360"/>
            <a:ext cx="6193080" cy="1439640"/>
          </a:xfrm>
          <a:prstGeom prst="wedgeRectCallout">
            <a:avLst>
              <a:gd name="adj1" fmla="val -29467"/>
              <a:gd name="adj2" fmla="val 7414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~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93800" y="3429000"/>
            <a:ext cx="6193080" cy="1440000"/>
          </a:xfrm>
          <a:prstGeom prst="wedgeRectCallout">
            <a:avLst>
              <a:gd name="adj1" fmla="val -27546"/>
              <a:gd name="adj2" fmla="val 750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~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4021200"/>
            <a:ext cx="6192720" cy="1439640"/>
          </a:xfrm>
          <a:prstGeom prst="wedgeRectCallout">
            <a:avLst>
              <a:gd name="adj1" fmla="val -16495"/>
              <a:gd name="adj2" fmla="val 852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~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81240" y="592200"/>
            <a:ext cx="47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2680" y="14436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20880" y="231840"/>
            <a:ext cx="6192720" cy="1655640"/>
          </a:xfrm>
          <a:prstGeom prst="wedgeRectCallout">
            <a:avLst>
              <a:gd name="adj1" fmla="val -59175"/>
              <a:gd name="adj2" fmla="val -31976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Entrance\(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After pervio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5600" y="99864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71640" y="1630440"/>
            <a:ext cx="6119640" cy="1511280"/>
          </a:xfrm>
          <a:prstGeom prst="wedgeRectCallout">
            <a:avLst>
              <a:gd name="adj1" fmla="val -42476"/>
              <a:gd name="adj2" fmla="val -6922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ont Siz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ld/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rance\( Blinds\dissolve i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 Cli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757600" y="3832200"/>
                <a:ext cx="36655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ι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ξ,ψ</m:t>
                    </m:r>
                    <m:r>
                      <m:t xml:space="preserve">)</m:t>
                    </m:r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Δ</m:t>
                        </m:r>
                      </m:lim>
                    </m:limUpp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κ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ν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Ι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κ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ξ,j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ψ</m:t>
                                </m:r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Τ</m:t>
                                    </m:r>
                                  </m:e>
                                  <m:sub>
                                    <m:r>
                                      <m:t xml:space="preserve">ι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sSub>
                              <m:e>
                                <m:r>
                                  <m:t xml:space="preserve">Ι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ξ,ψ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1965240" y="5330880"/>
            <a:ext cx="6193080" cy="934920"/>
          </a:xfrm>
          <a:prstGeom prst="wedgeRectCallout">
            <a:avLst>
              <a:gd name="adj1" fmla="val -10009"/>
              <a:gd name="adj2" fmla="val -725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quation Edi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rance\( 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pend on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52240" y="347184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47960" y="458640"/>
            <a:ext cx="2214360" cy="1854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430880" y="473040"/>
            <a:ext cx="2342880" cy="18525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76360" y="2398680"/>
            <a:ext cx="6192720" cy="934920"/>
          </a:xfrm>
          <a:prstGeom prst="wedgeRectCallout">
            <a:avLst>
              <a:gd name="adj1" fmla="val -9625"/>
              <a:gd name="adj2" fmla="val -9346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rance\( 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pend on situ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70120" y="349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i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09800" y="3716280"/>
          <a:ext cx="5541840" cy="27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9800" y="3716280"/>
                    <a:ext cx="5541840" cy="27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56160" y="328464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27280" y="2637000"/>
            <a:ext cx="6192720" cy="934920"/>
          </a:xfrm>
          <a:prstGeom prst="wedgeRectCallout">
            <a:avLst>
              <a:gd name="adj1" fmla="val -32953"/>
              <a:gd name="adj2" fmla="val 8531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ustom animation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ntrance\( Blinds-dissolve in-Unfol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art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pend on situation and chart eff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26:42Z</dcterms:created>
  <dc:creator>dci</dc:creator>
  <dc:description/>
  <dc:language>en-US</dc:language>
  <cp:lastModifiedBy>x</cp:lastModifiedBy>
  <dcterms:modified xsi:type="dcterms:W3CDTF">2004-05-08T13:32:18Z</dcterms:modified>
  <cp:revision>17</cp:revision>
  <dc:subject/>
  <dc:title>Slide 1</dc:title>
</cp:coreProperties>
</file>